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B94-13A9-4F62-B266-1E133AA3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3AC-9635-4DE9-93B5-474418D7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2F2-38E3-4240-88EA-14778C7D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322-5B20-47DD-A259-872ED57C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6EE-61FD-4C0F-92FE-6B7F41F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629-81EF-4F9B-89D5-C968C9F8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1B9-4D38-4C22-8C4B-6A30A1B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25C-0CE4-4D72-A64C-BE412D0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E11-768A-4DE6-A00C-E9BF1936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E60-DC91-4C51-970B-CBF0745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301-376E-40C2-81F5-6CB2A8A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4BC-2144-4F2C-B3C3-DC0F3B7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C1EB-CFDC-4C39-ADA9-3F020FAC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53320" y="996840"/>
            <a:ext cx="618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La Théori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     </a:t>
            </a:r>
            <a:r>
              <a:rPr b="0" lang="en-US" sz="9600" spc="-1" strike="noStrike">
                <a:solidFill>
                  <a:srgbClr val="808080"/>
                </a:solidFill>
                <a:latin typeface="Century Gothic"/>
              </a:rPr>
              <a:t>C-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49528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82440"/>
            <a:ext cx="6782040" cy="678204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Century Gothic"/>
              </a:rPr>
              <a:t>Abrég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14040" y="560520"/>
            <a:ext cx="62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Introduction à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778040"/>
            <a:ext cx="75438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C-K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Théorie de la conception (A. HATCHUEL, Mines Par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« La Conception </a:t>
            </a: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est un processus par lequel un concept va générer d’autres concepts et se transformer en connaissances 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de Concepts (C)/  Connaissances (K)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</a:t>
            </a:r>
            <a:r>
              <a:rPr b="0" lang="en-US" sz="1600" spc="-1" strike="noStrike">
                <a:solidFill>
                  <a:srgbClr val="4d4d4d"/>
                </a:solidFill>
                <a:latin typeface="Century Gothic"/>
              </a:rPr>
              <a:t>Liens entre les deux…..CO-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K : 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Les propositions ont un statut logique pour le concepteur. Regroupe les disponibles du concepteur (technique, marché, usage,…) (exemple : chaussure qui amortie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Espace C :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Les propositions n’ont pas un statut logique dans K. (ex : chaussure qui vole, chaussure qui roule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83160" y="1819440"/>
            <a:ext cx="0" cy="460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59040" y="2349360"/>
            <a:ext cx="983880" cy="785520"/>
            <a:chOff x="1859040" y="2349360"/>
            <a:chExt cx="983880" cy="785520"/>
          </a:xfrm>
        </p:grpSpPr>
        <p:sp>
          <p:nvSpPr>
            <p:cNvPr id="54" name=""/>
            <p:cNvSpPr/>
            <p:nvPr/>
          </p:nvSpPr>
          <p:spPr>
            <a:xfrm>
              <a:off x="1874880" y="2477160"/>
              <a:ext cx="9680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59040" y="2349360"/>
              <a:ext cx="58068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" y="3792600"/>
            <a:ext cx="966960" cy="693720"/>
            <a:chOff x="457200" y="3792600"/>
            <a:chExt cx="966960" cy="693720"/>
          </a:xfrm>
        </p:grpSpPr>
        <p:sp>
          <p:nvSpPr>
            <p:cNvPr id="57" name=""/>
            <p:cNvSpPr/>
            <p:nvPr/>
          </p:nvSpPr>
          <p:spPr>
            <a:xfrm>
              <a:off x="457200" y="3828960"/>
              <a:ext cx="966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" y="3792600"/>
              <a:ext cx="579960" cy="65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3280" y="3371760"/>
            <a:ext cx="966600" cy="785520"/>
            <a:chOff x="2843280" y="3371760"/>
            <a:chExt cx="966600" cy="785520"/>
          </a:xfrm>
        </p:grpSpPr>
        <p:sp>
          <p:nvSpPr>
            <p:cNvPr id="60" name=""/>
            <p:cNvSpPr/>
            <p:nvPr/>
          </p:nvSpPr>
          <p:spPr>
            <a:xfrm>
              <a:off x="2843280" y="3499560"/>
              <a:ext cx="966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43280" y="3371760"/>
              <a:ext cx="57996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82640" y="4632480"/>
            <a:ext cx="966960" cy="768240"/>
            <a:chOff x="1682640" y="4632480"/>
            <a:chExt cx="966960" cy="768240"/>
          </a:xfrm>
        </p:grpSpPr>
        <p:sp>
          <p:nvSpPr>
            <p:cNvPr id="63" name=""/>
            <p:cNvSpPr/>
            <p:nvPr/>
          </p:nvSpPr>
          <p:spPr>
            <a:xfrm>
              <a:off x="1682640" y="4742280"/>
              <a:ext cx="96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8840" y="4632480"/>
              <a:ext cx="57996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43280" y="4997520"/>
            <a:ext cx="966600" cy="768240"/>
            <a:chOff x="2843280" y="4997520"/>
            <a:chExt cx="966600" cy="768240"/>
          </a:xfrm>
        </p:grpSpPr>
        <p:sp>
          <p:nvSpPr>
            <p:cNvPr id="66" name=""/>
            <p:cNvSpPr/>
            <p:nvPr/>
          </p:nvSpPr>
          <p:spPr>
            <a:xfrm>
              <a:off x="2843280" y="5107320"/>
              <a:ext cx="96660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9480" y="4997520"/>
              <a:ext cx="57960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43440" y="23860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23160" y="26416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30800" y="4084560"/>
            <a:ext cx="7747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51560" y="4888080"/>
            <a:ext cx="772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>
            <a:off x="6130800" y="3135240"/>
            <a:ext cx="3880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/>
          <p:nvPr/>
        </p:nvCxnSpPr>
        <p:spPr>
          <a:xfrm flipH="1" flipV="1">
            <a:off x="6565320" y="2695320"/>
            <a:ext cx="1097640" cy="14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flipH="1">
            <a:off x="3580920" y="2695680"/>
            <a:ext cx="197028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907920" y="2916360"/>
            <a:ext cx="96840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2240" y="4011480"/>
            <a:ext cx="581040" cy="6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5920" y="2916360"/>
            <a:ext cx="387360" cy="43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4067280"/>
            <a:ext cx="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4011480"/>
            <a:ext cx="1935360" cy="10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16200" y="5327640"/>
            <a:ext cx="174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560520"/>
            <a:ext cx="43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Espaces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75040" y="155412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6920" y="155412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1520" y="560520"/>
            <a:ext cx="524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Notions de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778040"/>
            <a:ext cx="7543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Début du Raisonnement de conception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Disjonction de K vers C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….Formulation d’une Idée (sans statut logique dans K) à partir de Connaissances connu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Fin du Raisonnement de conception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entury Gothic"/>
              </a:rPr>
              <a:t>Conjonction de C vers K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….Formulation des propriétés d’une Idée P1,P2,…Pi) vraies pour les Connaissances connues (Chaussure, système de roulage,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artition Restrictive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Restriction de l’espace des possibles sans modifier la définition ou les attributs de l’objet.</a:t>
            </a:r>
            <a:r>
              <a:rPr b="0" lang="en-US" sz="16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artition Expansive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 : Construction progressive de l’objet en modifiant la définition de l’obj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83160" y="1819440"/>
            <a:ext cx="0" cy="460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59040" y="2349360"/>
            <a:ext cx="983880" cy="785520"/>
            <a:chOff x="1859040" y="2349360"/>
            <a:chExt cx="983880" cy="785520"/>
          </a:xfrm>
        </p:grpSpPr>
        <p:sp>
          <p:nvSpPr>
            <p:cNvPr id="93" name=""/>
            <p:cNvSpPr/>
            <p:nvPr/>
          </p:nvSpPr>
          <p:spPr>
            <a:xfrm>
              <a:off x="1874880" y="2477160"/>
              <a:ext cx="9680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59040" y="2349360"/>
              <a:ext cx="58068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" y="3792600"/>
            <a:ext cx="966960" cy="693720"/>
            <a:chOff x="457200" y="3792600"/>
            <a:chExt cx="966960" cy="693720"/>
          </a:xfrm>
        </p:grpSpPr>
        <p:sp>
          <p:nvSpPr>
            <p:cNvPr id="96" name=""/>
            <p:cNvSpPr/>
            <p:nvPr/>
          </p:nvSpPr>
          <p:spPr>
            <a:xfrm>
              <a:off x="457200" y="3828960"/>
              <a:ext cx="9669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792600"/>
              <a:ext cx="579960" cy="65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843280" y="3371760"/>
            <a:ext cx="966600" cy="785520"/>
            <a:chOff x="2843280" y="3371760"/>
            <a:chExt cx="966600" cy="785520"/>
          </a:xfrm>
        </p:grpSpPr>
        <p:sp>
          <p:nvSpPr>
            <p:cNvPr id="99" name=""/>
            <p:cNvSpPr/>
            <p:nvPr/>
          </p:nvSpPr>
          <p:spPr>
            <a:xfrm>
              <a:off x="2843280" y="3499560"/>
              <a:ext cx="966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3280" y="3371760"/>
              <a:ext cx="579960" cy="65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82640" y="4632480"/>
            <a:ext cx="966960" cy="768240"/>
            <a:chOff x="1682640" y="4632480"/>
            <a:chExt cx="966960" cy="768240"/>
          </a:xfrm>
        </p:grpSpPr>
        <p:sp>
          <p:nvSpPr>
            <p:cNvPr id="102" name=""/>
            <p:cNvSpPr/>
            <p:nvPr/>
          </p:nvSpPr>
          <p:spPr>
            <a:xfrm>
              <a:off x="1682640" y="4742280"/>
              <a:ext cx="96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8840" y="4632480"/>
              <a:ext cx="57996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43280" y="4997520"/>
            <a:ext cx="966600" cy="768240"/>
            <a:chOff x="2843280" y="4997520"/>
            <a:chExt cx="966600" cy="768240"/>
          </a:xfrm>
        </p:grpSpPr>
        <p:sp>
          <p:nvSpPr>
            <p:cNvPr id="105" name=""/>
            <p:cNvSpPr/>
            <p:nvPr/>
          </p:nvSpPr>
          <p:spPr>
            <a:xfrm>
              <a:off x="2843280" y="5107320"/>
              <a:ext cx="96660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59480" y="4997520"/>
              <a:ext cx="579600" cy="65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3440" y="23860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23160" y="2641680"/>
            <a:ext cx="774720" cy="6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30800" y="4084560"/>
            <a:ext cx="7747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1560" y="4888080"/>
            <a:ext cx="772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6130800" y="3135240"/>
            <a:ext cx="388080" cy="87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flipV="1">
            <a:off x="6565320" y="2695320"/>
            <a:ext cx="1097640" cy="14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 flipH="1">
            <a:off x="3580920" y="2695680"/>
            <a:ext cx="197028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07920" y="2916360"/>
            <a:ext cx="96840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2240" y="4011480"/>
            <a:ext cx="581040" cy="6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420640" y="2874600"/>
            <a:ext cx="398520" cy="47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16160" y="4067280"/>
            <a:ext cx="0" cy="87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011480"/>
            <a:ext cx="1935360" cy="10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616200" y="5327640"/>
            <a:ext cx="174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20" y="64771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Times New Roman"/>
              </a:rPr>
              <a:t>benoit.roussel@ensgsi.inpl-nancy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2640" y="560520"/>
            <a:ext cx="43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Espaces C et K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75040" y="155412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6920" y="155412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Espac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209680"/>
            <a:ext cx="3352680" cy="2286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61320" y="365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K con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724280"/>
            <a:ext cx="114300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4760" y="5257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K nouv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048120"/>
            <a:ext cx="2438280" cy="2895480"/>
          </a:xfrm>
          <a:custGeom>
            <a:avLst/>
            <a:gdLst/>
            <a:ahLst/>
            <a:rect l="l" t="t" r="r" b="b"/>
            <a:pathLst>
              <a:path w="1536" h="1824">
                <a:moveTo>
                  <a:pt x="1104" y="48"/>
                </a:moveTo>
                <a:lnTo>
                  <a:pt x="0" y="1104"/>
                </a:lnTo>
                <a:lnTo>
                  <a:pt x="624" y="1824"/>
                </a:lnTo>
                <a:lnTo>
                  <a:pt x="1536" y="1728"/>
                </a:lnTo>
                <a:lnTo>
                  <a:pt x="1248" y="0"/>
                </a:lnTo>
                <a:lnTo>
                  <a:pt x="1104" y="48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5960" y="60199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Partition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057400"/>
            <a:ext cx="3657600" cy="2743200"/>
          </a:xfrm>
          <a:custGeom>
            <a:avLst/>
            <a:gdLst/>
            <a:ahLst/>
            <a:rect l="l" t="t" r="r" b="b"/>
            <a:pathLst>
              <a:path w="2304" h="1728">
                <a:moveTo>
                  <a:pt x="1968" y="1392"/>
                </a:moveTo>
                <a:lnTo>
                  <a:pt x="1200" y="768"/>
                </a:lnTo>
                <a:lnTo>
                  <a:pt x="336" y="1728"/>
                </a:lnTo>
                <a:lnTo>
                  <a:pt x="0" y="1248"/>
                </a:lnTo>
                <a:lnTo>
                  <a:pt x="1344" y="0"/>
                </a:lnTo>
                <a:lnTo>
                  <a:pt x="2304" y="1104"/>
                </a:lnTo>
                <a:lnTo>
                  <a:pt x="1968" y="1392"/>
                </a:lnTo>
                <a:close/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080" y="4876920"/>
            <a:ext cx="16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Expa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717640" y="2286000"/>
            <a:ext cx="3570120" cy="4419360"/>
            <a:chOff x="2717640" y="2286000"/>
            <a:chExt cx="3570120" cy="4419360"/>
          </a:xfrm>
        </p:grpSpPr>
        <p:grpSp>
          <p:nvGrpSpPr>
            <p:cNvPr id="135" name="Group 2"/>
            <p:cNvGrpSpPr/>
            <p:nvPr/>
          </p:nvGrpSpPr>
          <p:grpSpPr>
            <a:xfrm>
              <a:off x="2749680" y="2286000"/>
              <a:ext cx="3538080" cy="4416480"/>
              <a:chOff x="2749680" y="2286000"/>
              <a:chExt cx="3538080" cy="4416480"/>
            </a:xfrm>
          </p:grpSpPr>
          <p:sp>
            <p:nvSpPr>
              <p:cNvPr id="136" name="Freeform 3"/>
              <p:cNvSpPr/>
              <p:nvPr/>
            </p:nvSpPr>
            <p:spPr>
              <a:xfrm>
                <a:off x="2749680" y="2708640"/>
                <a:ext cx="1738800" cy="399384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"/>
              <p:cNvSpPr/>
              <p:nvPr/>
            </p:nvSpPr>
            <p:spPr>
              <a:xfrm flipH="1">
                <a:off x="4561560" y="2487600"/>
                <a:ext cx="55080" cy="41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4754880" y="3755880"/>
                <a:ext cx="394560" cy="68472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4754880" y="4750920"/>
                <a:ext cx="387360" cy="79416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5152320" y="5614560"/>
                <a:ext cx="505800" cy="98892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5730120" y="3814560"/>
                <a:ext cx="469440" cy="96120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5285520" y="2693880"/>
                <a:ext cx="614520" cy="969480"/>
              </a:xfrm>
              <a:prstGeom prst="pie">
                <a:avLst/>
              </a:prstGeom>
              <a:solidFill>
                <a:srgbClr val="666699">
                  <a:alpha val="5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10"/>
              <p:cNvSpPr/>
              <p:nvPr/>
            </p:nvSpPr>
            <p:spPr>
              <a:xfrm>
                <a:off x="3320280" y="2289960"/>
                <a:ext cx="106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entury Gothic"/>
                    <a:ea typeface="ＭＳ Ｐゴシック"/>
                  </a:rPr>
                  <a:t>Conce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11"/>
              <p:cNvSpPr/>
              <p:nvPr/>
            </p:nvSpPr>
            <p:spPr>
              <a:xfrm>
                <a:off x="4906080" y="2286000"/>
                <a:ext cx="138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Century Gothic"/>
                    <a:ea typeface="ＭＳ Ｐゴシック"/>
                  </a:rPr>
                  <a:t>Knowled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26"/>
            <p:cNvSpPr/>
            <p:nvPr/>
          </p:nvSpPr>
          <p:spPr>
            <a:xfrm>
              <a:off x="2717640" y="2300400"/>
              <a:ext cx="3516120" cy="440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28"/>
            <p:cNvGrpSpPr/>
            <p:nvPr/>
          </p:nvGrpSpPr>
          <p:grpSpPr>
            <a:xfrm>
              <a:off x="2850480" y="2831400"/>
              <a:ext cx="1488600" cy="3515400"/>
              <a:chOff x="2850480" y="2831400"/>
              <a:chExt cx="1488600" cy="3515400"/>
            </a:xfrm>
          </p:grpSpPr>
          <p:sp>
            <p:nvSpPr>
              <p:cNvPr id="147" name="Line 29"/>
              <p:cNvSpPr/>
              <p:nvPr/>
            </p:nvSpPr>
            <p:spPr>
              <a:xfrm flipH="1">
                <a:off x="3094920" y="5419440"/>
                <a:ext cx="41688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>
                <a:off x="3787920" y="3893400"/>
                <a:ext cx="49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>
                <a:off x="3644640" y="4623480"/>
                <a:ext cx="441720" cy="152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H="1">
                <a:off x="2904120" y="3096000"/>
                <a:ext cx="1048680" cy="99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33"/>
              <p:cNvSpPr/>
              <p:nvPr/>
            </p:nvSpPr>
            <p:spPr>
              <a:xfrm>
                <a:off x="3953160" y="601632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34"/>
              <p:cNvSpPr/>
              <p:nvPr/>
            </p:nvSpPr>
            <p:spPr>
              <a:xfrm flipH="1">
                <a:off x="3346200" y="3096000"/>
                <a:ext cx="606960" cy="31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35"/>
              <p:cNvSpPr/>
              <p:nvPr/>
            </p:nvSpPr>
            <p:spPr>
              <a:xfrm>
                <a:off x="3787920" y="3893400"/>
                <a:ext cx="441720" cy="119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36"/>
              <p:cNvSpPr/>
              <p:nvPr/>
            </p:nvSpPr>
            <p:spPr>
              <a:xfrm>
                <a:off x="3677040" y="2831400"/>
                <a:ext cx="55260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37"/>
              <p:cNvSpPr/>
              <p:nvPr/>
            </p:nvSpPr>
            <p:spPr>
              <a:xfrm>
                <a:off x="3402000" y="336240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38"/>
              <p:cNvSpPr/>
              <p:nvPr/>
            </p:nvSpPr>
            <p:spPr>
              <a:xfrm>
                <a:off x="3069720" y="369324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39"/>
              <p:cNvSpPr/>
              <p:nvPr/>
            </p:nvSpPr>
            <p:spPr>
              <a:xfrm>
                <a:off x="3380040" y="535212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40"/>
              <p:cNvSpPr/>
              <p:nvPr/>
            </p:nvSpPr>
            <p:spPr>
              <a:xfrm>
                <a:off x="3567240" y="449028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41"/>
              <p:cNvSpPr/>
              <p:nvPr/>
            </p:nvSpPr>
            <p:spPr>
              <a:xfrm>
                <a:off x="4118760" y="3760560"/>
                <a:ext cx="22032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42"/>
              <p:cNvSpPr/>
              <p:nvPr/>
            </p:nvSpPr>
            <p:spPr>
              <a:xfrm>
                <a:off x="3899160" y="435744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43"/>
              <p:cNvSpPr/>
              <p:nvPr/>
            </p:nvSpPr>
            <p:spPr>
              <a:xfrm>
                <a:off x="3236400" y="608220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44"/>
              <p:cNvSpPr/>
              <p:nvPr/>
            </p:nvSpPr>
            <p:spPr>
              <a:xfrm>
                <a:off x="2850480" y="395928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45"/>
              <p:cNvSpPr/>
              <p:nvPr/>
            </p:nvSpPr>
            <p:spPr>
              <a:xfrm>
                <a:off x="3678120" y="3760560"/>
                <a:ext cx="22068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46"/>
              <p:cNvSpPr/>
              <p:nvPr/>
            </p:nvSpPr>
            <p:spPr>
              <a:xfrm>
                <a:off x="4118760" y="4888080"/>
                <a:ext cx="22032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47"/>
              <p:cNvSpPr/>
              <p:nvPr/>
            </p:nvSpPr>
            <p:spPr>
              <a:xfrm>
                <a:off x="2959920" y="5352120"/>
                <a:ext cx="21924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-152280" y="1219320"/>
            <a:ext cx="92962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560520"/>
            <a:ext cx="590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entury Gothic"/>
              </a:rPr>
              <a:t>Formalisation C et 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Pour « 48h pour Innover »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7200" y="990720"/>
            <a:ext cx="457200" cy="457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0:53:01Z</dcterms:created>
  <dc:creator> </dc:creator>
  <dc:description/>
  <dc:language>en-US</dc:language>
  <cp:lastModifiedBy> </cp:lastModifiedBy>
  <dcterms:modified xsi:type="dcterms:W3CDTF">2009-11-23T15:53:32Z</dcterms:modified>
  <cp:revision>3</cp:revision>
  <dc:subject/>
  <dc:title>Présentation PowerPoint</dc:title>
</cp:coreProperties>
</file>